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1CD-D90C-4F8E-A716-39AE78DD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7A7-3E7D-40C4-BF30-D292B9C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77F-B6DA-47A4-A076-30E6875B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76F-8ED8-44AB-B719-DBD5D56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863-3294-4F71-B189-C3C0E31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63D-1CE4-4876-B35D-51F5EBF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BA4-ED42-4F59-84AA-E26969E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209-1F04-45DD-91B3-F2324940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378-D9CB-4047-9D66-0B43F766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175-57E7-46A9-9BBA-DF01A03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9A8-2CF8-45D4-8989-41E8E77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703-4223-4E2C-B7A2-65B62104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EE5-2547-40C2-96EF-709828779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means to tame wild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at it is possible to use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human wants and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sign “Domestication of Animals”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 who study rui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ti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ch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clot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emporary shel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Paleolithic Age what are three things people learned how to do or m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ord of firsthand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very rel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rimary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 Number F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hieve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ciety that can trade and barter so people can exchange goods for things they don’t have is successfully using which sign of civi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out archeology w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 about the live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people and civiliz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Archeology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rning to grow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rning to herd anim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wo important discoveries were brought on the Neolithic Rev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hand information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es from someone who was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, but heard about the ev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condary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overnment to provid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ociety is cosidered a “Highly Organized Society” according to the signs of civilization, what do they now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setta Stone is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it translated Anci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gyptian writing into Greek,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owed us to understand Anci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gyptian writing for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Rosetta Stone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40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 of Man and Neolithic R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s of Civ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alization is the develop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different occup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pe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ociety with a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farming, trade, governm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, and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iv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shows that tools can be us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der to grow more crops to f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wing population of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explain what the sign “Cultivation of Crops” descri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nt: This question has to do with Archeolo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al Jeopardy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990720"/>
            <a:ext cx="8382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the most accurate method known to humans to date artifac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plain what the method is and how it work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cheology is the stud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cient people, culture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ifa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ch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did the first people live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ncludes the way a group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igns of civilization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s once used by anc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that have histo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t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4479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o - Magnon and Neanderth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names of the two different groups of humans during the Paleolithic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to trade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no money involv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B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CPS</cp:lastModifiedBy>
  <cp:lastPrinted>2001-01-31T16:21:13Z</cp:lastPrinted>
  <dcterms:modified xsi:type="dcterms:W3CDTF">2009-09-14T23:09:36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